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2.png" ContentType="image/png"/>
  <Override PartName="/ppt/media/image21.jpeg" ContentType="image/jpeg"/>
  <Override PartName="/ppt/media/image6.gif" ContentType="image/gif"/>
  <Override PartName="/ppt/media/image29.gif" ContentType="image/gif"/>
  <Override PartName="/ppt/media/image26.jpeg" ContentType="image/jpeg"/>
  <Override PartName="/ppt/media/image5.jpeg" ContentType="image/jpeg"/>
  <Override PartName="/ppt/media/image7.gif" ContentType="image/gif"/>
  <Override PartName="/ppt/media/image32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8.gif" ContentType="image/gif"/>
  <Override PartName="/ppt/media/image15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E934-CC1E-4129-84BF-BD4EE1BF3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DD30-279C-49BB-AB54-C8DD5ED52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4755-0C7A-4961-9885-D45FD7008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AF0D-B144-4FEB-BAD1-74D268B45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874F-B6D4-42CF-BD04-16D685EE2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71F3-AAAB-41AA-901D-54CA6C8A6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F217-AA6C-4866-A929-EE91E346F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7675-E422-47B8-821A-A8B2430C6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F8A2-3339-40A8-9526-A81D00328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2040-80DA-4EF6-921A-0A9B8646F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B26C-D98A-48E1-AD47-3845BA1CC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7F5F-29CF-4B2F-87A3-769B9D8D7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29FB-05F3-44FC-9978-618ACCFBF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C799-74A1-4D38-B43C-CCBF465E3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48B5-BA30-475A-850B-66742BC9E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C985-B51A-4361-88AF-DD35418E7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0D58-DA05-4600-8ED2-D9348FF56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60A3-2F4D-43A1-9F12-1EC0180EA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F34E-B5B8-40F8-8E10-139548446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77CA-4E63-49A0-B848-A425E611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470-0540-4AF1-BEE2-F7A4F6BC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B1FD-12C7-4BB0-8E90-0613BA08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798-96A3-4025-9294-5CD70C97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994-B0ED-4D55-A4DE-3CCF966D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F09D-9335-4683-83BA-8332F5B9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772-6D92-4265-B1C7-F0718C42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2A20-0737-45D5-B9E2-2D11DDBA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0B8-32C2-4118-90AC-06BD3A22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62EE-0667-42F4-8964-148AA8C7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6B4D-D2D7-4F53-8C2B-814B9B41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5AEB-8F8D-43EA-A6CB-A6A7E146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8ff"/>
            </a:gs>
            <a:gs pos="100000">
              <a:srgbClr val="ffa3d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21B7-8155-4B89-BBC8-49E633F5E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228600"/>
            <a:ext cx="914400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a441e"/>
                </a:solidFill>
                <a:latin typeface="Chalkboard"/>
              </a:rPr>
              <a:t>Electric Currents from Magnetis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1b0d"/>
                </a:solidFill>
                <a:latin typeface="Arial"/>
              </a:rPr>
              <a:t>Chp. 18, Section 3, pages 632-6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Dilbertelectricity"/>
          <p:cNvPicPr/>
          <p:nvPr/>
        </p:nvPicPr>
        <p:blipFill>
          <a:blip r:embed="rId1"/>
          <a:stretch/>
        </p:blipFill>
        <p:spPr>
          <a:xfrm>
            <a:off x="0" y="3733920"/>
            <a:ext cx="91440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TING ELECTRICITY USING MAGNET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Generating_Electricity___Understanding_Electromagnetism copy.mo" descr="Macintosh HD:Users:s71678:Desktop:Generating_Electricity___Understanding_Electromagnetism copy.mo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how_wind_turbine_works.jpg"/>
          <p:cNvPicPr/>
          <p:nvPr/>
        </p:nvPicPr>
        <p:blipFill>
          <a:blip r:embed="rId1"/>
          <a:stretch/>
        </p:blipFill>
        <p:spPr>
          <a:xfrm>
            <a:off x="0" y="1422360"/>
            <a:ext cx="9144000" cy="54356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5638680" y="0"/>
            <a:ext cx="3505320" cy="1922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IND POW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wind turbine2(1).jpg"/>
          <p:cNvPicPr/>
          <p:nvPr/>
        </p:nvPicPr>
        <p:blipFill>
          <a:blip r:embed="rId2"/>
          <a:stretch/>
        </p:blipFill>
        <p:spPr>
          <a:xfrm>
            <a:off x="0" y="0"/>
            <a:ext cx="357192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map_of_area_towns_med.jpg"/>
          <p:cNvPicPr/>
          <p:nvPr/>
        </p:nvPicPr>
        <p:blipFill>
          <a:blip r:embed="rId1"/>
          <a:stretch/>
        </p:blipFill>
        <p:spPr>
          <a:xfrm>
            <a:off x="1066680" y="0"/>
            <a:ext cx="701064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26_portsmouth_abbey.jpg"/>
          <p:cNvPicPr/>
          <p:nvPr/>
        </p:nvPicPr>
        <p:blipFill>
          <a:blip r:embed="rId1"/>
          <a:stretch/>
        </p:blipFill>
        <p:spPr>
          <a:xfrm>
            <a:off x="685800" y="108576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98" name="TextBox 7"/>
          <p:cNvSpPr/>
          <p:nvPr/>
        </p:nvSpPr>
        <p:spPr>
          <a:xfrm>
            <a:off x="0" y="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ies 40% of electricity for Portsmouth Abbey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JA0207_Wind_BW_02-07-09_S9D88GF.jpg"/>
          <p:cNvPicPr/>
          <p:nvPr/>
        </p:nvPicPr>
        <p:blipFill>
          <a:blip r:embed="rId1"/>
          <a:stretch/>
        </p:blipFill>
        <p:spPr>
          <a:xfrm>
            <a:off x="0" y="3205080"/>
            <a:ext cx="5486400" cy="3652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3278531937_52b65e5416.jpg"/>
          <p:cNvPicPr/>
          <p:nvPr/>
        </p:nvPicPr>
        <p:blipFill>
          <a:blip r:embed="rId2"/>
          <a:stretch/>
        </p:blipFill>
        <p:spPr>
          <a:xfrm>
            <a:off x="0" y="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250px-Rhode_Island_Municipalities_Portsmouth_Highlighted-1.png"/>
          <p:cNvPicPr/>
          <p:nvPr/>
        </p:nvPicPr>
        <p:blipFill>
          <a:blip r:embed="rId3"/>
          <a:stretch/>
        </p:blipFill>
        <p:spPr>
          <a:xfrm>
            <a:off x="5486400" y="0"/>
            <a:ext cx="3657600" cy="5398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WIND_BB_01.JPG"/>
          <p:cNvPicPr/>
          <p:nvPr/>
        </p:nvPicPr>
        <p:blipFill>
          <a:blip r:embed="rId4"/>
          <a:stretch/>
        </p:blipFill>
        <p:spPr>
          <a:xfrm>
            <a:off x="5334120" y="4321080"/>
            <a:ext cx="3809880" cy="2536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0" y="0"/>
            <a:ext cx="30481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9th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2502_Hydroelectric-d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2209680" y="457200"/>
            <a:ext cx="6934320" cy="764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ELECTRIC D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arrisst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228600" y="3808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IS STATION-  Kennebec River, M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otRocks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659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1752480" y="0"/>
            <a:ext cx="5639040" cy="1008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52480" y="2438280"/>
            <a:ext cx="57913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M CREATED NATUR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 spin the turb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image005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0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 = EARTH and THERMAL = H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Using_Steam___Understanding_Geothermal_Energy copy.mo" descr="Macintosh HD:Users:s71678:Desktop:Using_Steam___Understanding_Geothermal_Energy copy.mo"/>
          <p:cNvPicPr/>
          <p:nvPr/>
        </p:nvPicPr>
        <p:blipFill>
          <a:blip r:embed="rId1"/>
          <a:stretch/>
        </p:blipFill>
        <p:spPr>
          <a:xfrm>
            <a:off x="533520" y="800280"/>
            <a:ext cx="8076960" cy="60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4572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57200" y="144792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year ______, the English scientist _________________ discovered that ____________ can be produced from ____________.  How?  What did h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124080" y="129528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1b0d"/>
                </a:solidFill>
                <a:latin typeface="Arial"/>
              </a:rPr>
              <a:t>18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57200" y="19051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ICHAEL FARA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57200" y="2438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57200" y="2895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AGNET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michael_faraday"/>
          <p:cNvPicPr/>
          <p:nvPr/>
        </p:nvPicPr>
        <p:blipFill>
          <a:blip r:embed="rId1"/>
          <a:stretch/>
        </p:blipFill>
        <p:spPr>
          <a:xfrm>
            <a:off x="838080" y="3733920"/>
            <a:ext cx="2086200" cy="2590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3200400" y="4114800"/>
            <a:ext cx="556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74"/>
                </a:solidFill>
                <a:latin typeface="Lucida Calligraphy"/>
              </a:rPr>
              <a:t>Michael Fara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74"/>
                </a:solidFill>
                <a:latin typeface="Lucida Calligraphy"/>
              </a:rPr>
              <a:t>1791-18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tidal1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457200" y="99072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 rot="19302600">
            <a:off x="-304560" y="1679040"/>
            <a:ext cx="6070680" cy="1099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IDAL POW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edf_la-rance_2_quer"/>
          <p:cNvPicPr/>
          <p:nvPr/>
        </p:nvPicPr>
        <p:blipFill>
          <a:blip r:embed="rId1"/>
          <a:stretch/>
        </p:blipFill>
        <p:spPr>
          <a:xfrm>
            <a:off x="3279600" y="3092400"/>
            <a:ext cx="5864400" cy="3765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Val-Rive-map1"/>
          <p:cNvPicPr/>
          <p:nvPr/>
        </p:nvPicPr>
        <p:blipFill>
          <a:blip r:embed="rId2"/>
          <a:stretch/>
        </p:blipFill>
        <p:spPr>
          <a:xfrm>
            <a:off x="0" y="0"/>
            <a:ext cx="3586320" cy="35863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3809880" y="914400"/>
            <a:ext cx="5181840" cy="101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CE TIDAL POWER ST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tid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4"/>
          <p:cNvSpPr/>
          <p:nvPr/>
        </p:nvSpPr>
        <p:spPr>
          <a:xfrm>
            <a:off x="304920" y="0"/>
            <a:ext cx="853416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ELECTRICITY GENERATION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Understanding_the_Connection_of_Electricity_and_Magnetism.mo" descr="Macintosh HD:Users:s71678:Desktop:Understanding_the_Connection_of_Electricity_and_Magnetism.mo"/>
          <p:cNvPicPr/>
          <p:nvPr/>
        </p:nvPicPr>
        <p:blipFill>
          <a:blip r:embed="rId1"/>
          <a:stretch/>
        </p:blipFill>
        <p:spPr>
          <a:xfrm>
            <a:off x="533520" y="74304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induction_01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aradayRing"/>
          <p:cNvPicPr/>
          <p:nvPr/>
        </p:nvPicPr>
        <p:blipFill>
          <a:blip r:embed="rId1"/>
          <a:stretch/>
        </p:blipFill>
        <p:spPr>
          <a:xfrm>
            <a:off x="1828800" y="304920"/>
            <a:ext cx="5638680" cy="47941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762120" y="5334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a441e"/>
                </a:solidFill>
                <a:latin typeface="Arial"/>
              </a:rPr>
              <a:t>Faraday’s ring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induction_0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051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28600" y="5715000"/>
            <a:ext cx="8610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aff06"/>
                </a:solidFill>
                <a:latin typeface="Arial"/>
              </a:rPr>
              <a:t>Describe experiment in your own word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457200" y="457200"/>
            <a:ext cx="8229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ctromagnetic Indu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920" y="11430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80880" y="1295280"/>
            <a:ext cx="838224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through which electric _________ is produced by a __________ magnetic 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80880" y="2819520"/>
            <a:ext cx="876312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produce a changing magnetic fie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990720" y="44956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441e"/>
                </a:solidFill>
                <a:latin typeface="Arial"/>
              </a:rPr>
              <a:t>Change current (or turn off/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990720" y="39625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441e"/>
                </a:solidFill>
                <a:latin typeface="Arial"/>
              </a:rPr>
              <a:t>Move the wire near the mag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990720" y="33526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441e"/>
                </a:solidFill>
                <a:latin typeface="Arial"/>
              </a:rPr>
              <a:t>Move the magnet nea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838080" y="17524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6172200" y="1752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CHA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induction_animation"/>
          <p:cNvPicPr/>
          <p:nvPr/>
        </p:nvPicPr>
        <p:blipFill>
          <a:blip r:embed="rId1"/>
          <a:stretch/>
        </p:blipFill>
        <p:spPr>
          <a:xfrm>
            <a:off x="2743200" y="4660920"/>
            <a:ext cx="32004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induction_animation"/>
          <p:cNvPicPr/>
          <p:nvPr/>
        </p:nvPicPr>
        <p:blipFill>
          <a:blip r:embed="rId1"/>
          <a:stretch/>
        </p:blipFill>
        <p:spPr>
          <a:xfrm>
            <a:off x="1066680" y="-1066680"/>
            <a:ext cx="6553440" cy="4498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304920" y="29718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is created only if wire cuts across the magnetic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04920" y="43434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rection of the current depends on the direction of the movement of the magnetic field (or wire through the magnetic fie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80880" y="1522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ctric Gen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2280" y="1295280"/>
            <a:ext cx="4648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____________ energy into ___________ energy (how does this compare to an electric motor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acdc_anim_ac"/>
          <p:cNvPicPr/>
          <p:nvPr/>
        </p:nvPicPr>
        <p:blipFill>
          <a:blip r:embed="rId1"/>
          <a:stretch/>
        </p:blipFill>
        <p:spPr>
          <a:xfrm>
            <a:off x="4724280" y="914400"/>
            <a:ext cx="4233960" cy="5029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acdc_inside_generator"/>
          <p:cNvPicPr/>
          <p:nvPr/>
        </p:nvPicPr>
        <p:blipFill>
          <a:blip r:embed="rId2"/>
          <a:stretch/>
        </p:blipFill>
        <p:spPr>
          <a:xfrm>
            <a:off x="762120" y="3962520"/>
            <a:ext cx="2590560" cy="25905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52280" y="22860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ELECTR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905120" y="12952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ECHA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4920" y="3808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80880" y="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the magnets move or the wires mo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28600" y="1219320"/>
            <a:ext cx="853452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441e"/>
                </a:solidFill>
                <a:latin typeface="Arial"/>
              </a:rPr>
              <a:t>EXAMPLES OF GENERA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laptop-front"/>
          <p:cNvPicPr/>
          <p:nvPr/>
        </p:nvPicPr>
        <p:blipFill>
          <a:blip r:embed="rId1"/>
          <a:stretch/>
        </p:blipFill>
        <p:spPr>
          <a:xfrm>
            <a:off x="5286240" y="3724200"/>
            <a:ext cx="3857760" cy="3133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A32QYS925KXU7A_1186076932720"/>
          <p:cNvPicPr/>
          <p:nvPr/>
        </p:nvPicPr>
        <p:blipFill>
          <a:blip r:embed="rId2"/>
          <a:stretch/>
        </p:blipFill>
        <p:spPr>
          <a:xfrm>
            <a:off x="0" y="39625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41WYkTDsTxL"/>
          <p:cNvPicPr/>
          <p:nvPr/>
        </p:nvPicPr>
        <p:blipFill>
          <a:blip r:embed="rId3"/>
          <a:stretch/>
        </p:blipFill>
        <p:spPr>
          <a:xfrm>
            <a:off x="2895480" y="4348080"/>
            <a:ext cx="2509920" cy="2509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5k4080"/>
          <p:cNvPicPr/>
          <p:nvPr/>
        </p:nvPicPr>
        <p:blipFill>
          <a:blip r:embed="rId4"/>
          <a:stretch/>
        </p:blipFill>
        <p:spPr>
          <a:xfrm>
            <a:off x="1981080" y="1905120"/>
            <a:ext cx="4013280" cy="3009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sc04782569"/>
          <p:cNvPicPr/>
          <p:nvPr/>
        </p:nvPicPr>
        <p:blipFill>
          <a:blip r:embed="rId5"/>
          <a:stretch/>
        </p:blipFill>
        <p:spPr>
          <a:xfrm>
            <a:off x="0" y="617400"/>
            <a:ext cx="9144000" cy="6240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sc04782569_2"/>
          <p:cNvPicPr/>
          <p:nvPr/>
        </p:nvPicPr>
        <p:blipFill>
          <a:blip r:embed="rId6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23:33:17Z</dcterms:created>
  <dc:creator>Sewatsky</dc:creator>
  <dc:description/>
  <dc:language>en-US</dc:language>
  <cp:lastModifiedBy>Michele</cp:lastModifiedBy>
  <cp:lastPrinted>2011-12-07T00:15:41Z</cp:lastPrinted>
  <dcterms:modified xsi:type="dcterms:W3CDTF">2012-11-26T19:54:44Z</dcterms:modified>
  <cp:revision>41</cp:revision>
  <dc:subject/>
  <dc:title>PowerPoint Presentation</dc:title>
</cp:coreProperties>
</file>